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C8B4A-A531-49AD-92B5-DE871DAE42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D1B49-5258-43FC-92B1-EEB3D92EB0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29207-1949-40C8-9B41-237D991E95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1986D-75AD-45A1-A46F-41230B21ECE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02EAE-7A12-4921-ABCF-7030D85AAE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98AA-2F9E-45B0-A0D8-3F756E973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0F27-9EDE-4768-8809-091017B0A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C85C-5946-4E53-B1A3-5A1BDE045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BF1D-E9F7-475E-B8E8-298046DEB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03B6-404F-4BC0-A5DB-736E4A0E36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2171-C33D-461B-AD11-72AC7DE096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02DD-EFE7-4260-9F31-2CD2A188F5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96F1-9970-4206-AD6B-5CA9C47180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714D-6395-4945-817C-05C7F3D626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8D73-8B9F-45D4-98DD-180C58D542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63C3-A8D5-42DA-B312-D8B949060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2F74-6236-4C50-B623-87A029CB7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8037-8B29-4F1C-9B17-9DA03D5FAC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DFEA-E00D-47A7-ADD8-D8988329A4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FDB1-E7D0-4A84-9C65-7702EB61B6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3CCF-5FAE-4298-B3A3-902F8DFD9C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FB19-9D9D-49A2-818D-B1DEA9DB45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5B66-9842-4BB8-B743-0BB9D9155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1206-BD8B-40D0-A6EA-B35B8D784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37E2-901A-4651-86AC-40AC1FFB4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01D2-D6F9-4D5A-99AD-837F6957B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20B7-02E3-4EB5-A678-33AA07E82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17D7-FFFF-48F8-B87F-61A2B278C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3A2E-671A-49F9-88DE-32956838A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107884-31E7-4D2C-B104-907182E3F010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7D9FB6F4-33AB-4E56-A2A2-159C343A98E3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3528FD-E21E-429E-9970-581E0A68D5D6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530BF295-3F40-40AD-8278-FC014C30A652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oorontwik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xpertgroep informatiemodellen 10 februari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1 Terugbli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uitgangspunten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Metamodel ERD2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SO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 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Aanpassing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Referentiemodellen Gemeentelij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   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Basisgegevens (RG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Voorkomen interpretatie van specific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el 1"/>
          <p:cNvSpPr/>
          <p:nvPr/>
        </p:nvSpPr>
        <p:spPr>
          <a:xfrm>
            <a:off x="15717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08000" y="642960"/>
            <a:ext cx="9036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 Terugbli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uitgangspunten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ERD2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2 SO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      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Aanpassing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Metamodel Referen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         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Gemeentelijke Basisgegevens (RG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Aanpass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357120" y="714240"/>
            <a:ext cx="8460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Constructie groepattribuutsoort is aangepast, hierdoor zijn geneste groepattribuutsoorten mogelijk en dus generiek toepasbaar binnen het stels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Aanpassing constructie leidt tot het vervallen van stereotypes Subattribuutsoort, Subrelatiesoort en Subgroepattribuutsoor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emantisch  / inhoudelijk is groepattribuutsoort niet gewijzig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attributen binnen een groep wijzigen gezamenlij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Nieuw stereotypes Datatype, Referentielijst en Referentiegegeven toegevoeg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Opname stereotype Tekentechnisch t.b.v. presentatie in diagramm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Soll: Metamodel R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28760" y="419040"/>
            <a:ext cx="7586640" cy="665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Debat_E</cp:lastModifiedBy>
  <dcterms:modified xsi:type="dcterms:W3CDTF">2011-01-23T10:07:15Z</dcterms:modified>
  <cp:revision>179</cp:revision>
  <dc:subject/>
  <dc:title>Dia 1</dc:title>
</cp:coreProperties>
</file>